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82A-9C6A-420A-9C09-3251ED5E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C73-B47F-4F88-A027-990B77D4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7E05-D94F-44BA-BB20-EDB3B467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BBC-F077-4F7D-8A63-6EED106C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1FB-6DCE-4688-A147-7C8507D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4051-59FF-4EEB-9623-99CEA03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E0D-A4AD-45E3-A8FB-D4C066B3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99F-F4AB-405F-A25D-261C86AE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DFA-10B4-4558-B1AF-6A25916C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778-61C2-4570-B8C1-1D7F0158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57B-6471-4B85-A31D-16186205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A08-84D0-43B0-91E8-E2CAB0A3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AD2E-A2E6-4A95-856E-4F2F47E1F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3276720"/>
            <a:ext cx="487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短语集萃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338560" y="2581200"/>
            <a:ext cx="446688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120" y="228600"/>
            <a:ext cx="8852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used for the latest ideas and technical inven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is day in his boo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es Verne died in 1905, long before any of his d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e tru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is also very strong and protect with thick i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s needed for life on board comes from the 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ity is used for light, heating,power and def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against atta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28600"/>
            <a:ext cx="3808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00400" y="67644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762120"/>
            <a:ext cx="76212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3623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8280" y="189540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5120" y="31910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33520" y="4419720"/>
            <a:ext cx="4572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4495680"/>
            <a:ext cx="30456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9680" y="43340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162920" y="5257800"/>
            <a:ext cx="3808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5334120"/>
            <a:ext cx="30492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52680" y="54770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8680" y="295200"/>
            <a:ext cx="8670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guide leads them through a narrow pa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ly 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 along its shores they go through fore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hrooms and plants that lived on the earth long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entered the search for wisdom and dreamt of f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y to cure of any dis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prepare a body for it with all its muscl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was still remained a difficul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on a night in November when I looked at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f my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143000"/>
            <a:ext cx="99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48840" y="7002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62120" cy="76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90960" y="242892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352680"/>
            <a:ext cx="38124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62520" y="3343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3352680"/>
            <a:ext cx="53316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4648320"/>
            <a:ext cx="4572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0" y="45626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4648320"/>
            <a:ext cx="9144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5867280"/>
            <a:ext cx="762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14960" y="593424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1512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果天气允许，我们明天去看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going to visit you tomorr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果那个会议很没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eting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to be bori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代科学的发展已使这个问题明朗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rn scientific development has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this qu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从他经商以来，他总是很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he took up business, he has always been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这件 事上我们的意见看来是一致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seem to be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the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600" y="69120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 permi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7280" y="1772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ned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1160" y="270720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n light on/up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15280" y="46519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5480" y="56599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greement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600200" y="228600"/>
            <a:ext cx="128592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1577160" y="990720"/>
            <a:ext cx="302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渐渐喜欢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使某人记起某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打下…的基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着手做某事 ；出发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某人努力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结果是，被证明是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带某人上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从那天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囚禁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去冒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阐明…，使…显得清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引起某人的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54040" y="9144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develop one’s lov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41720" y="1371600"/>
            <a:ext cx="28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remind sb. of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8040" y="181944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lay the founda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9640" y="2276640"/>
            <a:ext cx="27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set out to do s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3160" y="26575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in one’s efforts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58960" y="303840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turn out to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1560" y="34956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ake sb. on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63320" y="39528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from that day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6640" y="44100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keep sb. as a pris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0320" y="47149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go on an adven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2640" y="524844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throw light u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29280" y="5629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宋体"/>
              </a:rPr>
              <a:t>attract one’s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7280" y="1201680"/>
            <a:ext cx="229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英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谋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允许某人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1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宋体"/>
              </a:rPr>
              <a:t>保卫…免受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穿着潜水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40800" y="1211400"/>
            <a:ext cx="29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eight feet in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3560" y="166860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ke a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240" y="211608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low sb. to do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3040" y="249696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fend …agains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56680" y="2878200"/>
            <a:ext cx="35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ressed in diving s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743200"/>
            <a:ext cx="7153200" cy="28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Multiple choices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392760" y="1343160"/>
            <a:ext cx="9736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To make a ______ , he had to write and sell s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iving        B. life         C. alive         D.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Most of his stories will remind the reader_______th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ad 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ith          B. to           C. of               D.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 People had no idea_________the inside of the ea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ight look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 what         B. how       C. that           D. 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obody is allowed _______in the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to smoke                     B. smoki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o be smoked             D. having smo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581040"/>
            <a:ext cx="1380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Unit 12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1285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9240" y="2124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20240" y="3495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920" y="4714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7280" y="330120"/>
            <a:ext cx="8925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 To their surprise, the monster________ a subma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 l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urned to be             B. turned out to b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urned up                 D. turn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. All _______is needed for life on board comes from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c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at        B. that           C. which        D. 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 Readers________about the character of hero ever 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book was pu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had wondered                    B. have wo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have been wondering        D. had been won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 guide leads us ________a narrow passage de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o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o          B. across           C. above          D.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48680" y="295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9840" y="197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48280" y="3343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72520" y="5019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8480" y="228600"/>
            <a:ext cx="8931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9. Henry shows great interest in _________physic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wishes himself to become________Einstein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/; an         B. the; an           C. /; /             D. the ;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0. Generally, the species that are able to adapt to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ange of the environment will survive, __________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thers will die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le         B. although          C. if         D.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1. Trick-or-treat is a Halloween tradition,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ildren go  from house to house_________for can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r other treats from their neighb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hich; asked          B. whose; ask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where; asked          D. in which ; as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49040" y="219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72920" y="2352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49240" y="402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378720" y="0"/>
            <a:ext cx="9461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2. ----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ommy, isn’t it time you _____the school b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---Okay, I _______my break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must catch; have almost finish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. catch; will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aught; am almost finishing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. should catch; almost fi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3. Please forgive me if I have _______any of you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questions  unansw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left          B. made         C. let           D. rem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4. In your review of a film, you can make ________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fferent  things about the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decision            B. clarity(n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清楚）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comments         D. sugg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67800" y="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1552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7292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440" y="152280"/>
            <a:ext cx="88981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5. Thinking of _______the journey would cost him a lo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 dismissed the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the fact that          B. the fact which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at                      D. w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hey began to search for the relat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_________they reached the earthquake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soon                          B. immediate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the moment              D. at the min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7. I think Tom, ________you,  ________to bl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rather than; is            B. rather than;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more than; are           D. less than ;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8. The Anti-Japanese War______in 1937 and i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ight yea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. was broken out; lasted             B. broke out; la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. break out; lasts                         D. broke out ; 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3960" y="152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2860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3581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6080" y="4876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</cp:lastModifiedBy>
  <dcterms:modified xsi:type="dcterms:W3CDTF">2005-06-20T12:08:09Z</dcterms:modified>
  <cp:revision>34</cp:revision>
  <dc:subject/>
  <dc:title>PowerPoint Presentation</dc:title>
</cp:coreProperties>
</file>